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404E-7908-4275-AD5D-17D6438A4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-bit signed format is in the form of one signed bit, four int bits, and eight fraction bits, giving a dynamic range of +- 16.0, where a current card has a range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ing slides show how clampling to 0-16 enhances image quality without much 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iterated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bright lighting used with only one texture. Iterated diffuse color is clamped to a larger range through rampage pipe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ly bright lights turn most objects, white (wash out), almost regardless or surface color or light co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ions: Surfaces/lights that are pure Red, Green or Blue. Police car lights are an example here. (Cop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ple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bient light is still gr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viously a purple light turns an object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aling Gary’s idea of giving away big money prizes to keep people interested in the 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image is created by traditional hardware. Overbright purple light gets clamped at 1.0, creating a non-overbright white light, causing the object to appear green instead of pur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n astetic point of view, Left image is the “right one”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Four lines of code. One enabling larger clamp range in hardwar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three for changing the clamp value to 0-15.ff instead of 0-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ene from a top-selling mov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mputer gener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d washed-out area in the background. Notice blurring of detail because of the high intensity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y Halo Demo now. Point out key features. Mentioned “exaggerated effect” to be noticable on a low-res projection moni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HALO D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g running four-pass, voodoo3, eight textures to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through each of the textures, one by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Surface Te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Light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 Reflection map/gloss m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Environment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up: This was shown at TI 1998 (Verify with Gar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is Fut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multiple lightmap demo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cene (not a CGI scene), shows how to use the borg effect on a more day to day sce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 pavement. Wet pavement at night is used a lot in moves: it looks a lot better than dry pave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e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jected diffuse light map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map, for moist areas. Alpha channel could indicate where puddles a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ular environment map. May also need a detail map. Could be a bump env. Ma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map, applied to puddles.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need multiple projection/ reflection maps, for all the lights at different lo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xt Generation Video engine includes enhanced MPEG support, better Scaling, Flicker filtering, advanced deinterlaced filtering (above bob or weave), and temporal fil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running predator demo, then NPR rendering demos, while showing thi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ox G400 already does 1-level recursion, for environment bump mapping. Rampage’s much more flexible. BumpEnv mapping is a subset of recursive textur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original npr.z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soft shadow demo during this slide, to show what single-light source shadows can look li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textures, completely independant, regardless of filtering type or number of pixel pipes, or whether AA is turned on or n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rators. Multiple iterators used for iterating non-colors: Normals, transform matrice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ursion means using output of pixel shader to modify texture address coordinates, similar to a cpu’s index addressing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ure computer is our version of a pixel sha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hilosophy: textures are multi-dimensional arrays, useful as surface data, light data,1D and 2D t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round quad operand : (A+/-B)*C+D. Can build blends, macs, other ops out of this basic fucn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ased multiplexing useful for clamping, piecewise linear functions, min/max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show off uses for the compare based multiplexing and output summing in demos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movie loop at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able Anisotropic means with enough precision and enough taps and precision to give the sharpest possible images possible, with no aliasing artifacts during 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ering type orthogonal to all other operations, number of texutres, shading modes, etc. Allows for easy integration into any appl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128 taps, real images show only a 50% performance drop from bilin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ior to trilinear, since trilinear blurs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EB6-CB23-4AA3-B6D4-52138133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05E2-AF8A-4A02-825D-7F2CD572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0CCF-4761-43EC-95B2-6EEF7239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2048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64800" y="1600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7616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2048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64800" y="40284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75B-FBA7-4485-A94B-F5BD92C8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0E2-7B55-4333-A826-28BFFE6F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7CB-A93F-41F6-8BA4-3107E7D2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2D3-B80C-404F-9F2D-B1E56D48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6BA0-ACDD-4019-A6BE-787A682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76160" y="151920"/>
            <a:ext cx="693396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B3B7-035A-4ED9-99C8-E97B3CC1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8C09-2395-4593-80BC-0D59FB37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29360" y="40284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A67F-7E28-4C9E-A463-B051E093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29360" y="1600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76160" y="40284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779F-225B-4125-BF47-ACE4B8A8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mersion1" descr=""/>
          <p:cNvPicPr/>
          <p:nvPr/>
        </p:nvPicPr>
        <p:blipFill>
          <a:blip r:embed="rId2"/>
          <a:stretch/>
        </p:blipFill>
        <p:spPr>
          <a:xfrm>
            <a:off x="0" y="-103320"/>
            <a:ext cx="9144000" cy="706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99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552720"/>
            <a:ext cx="2819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1BA0-3A88-44CF-BF29-400485A213F0}" type="slidenum">
              <a:rPr b="0" lang="en-US" sz="1400" spc="-1" strike="noStrike">
                <a:solidFill>
                  <a:srgbClr val="ff99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562720" y="655308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Times New Roman"/>
              </a:rPr>
              <a:t>Proprietary and Confid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Texturing and Shad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 Kilgariff, VP of Architectur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emmett@3dfx.co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3/9/00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Texture Computer/Pixel Shad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576440" y="1641600"/>
          <a:ext cx="7567560" cy="521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1641600"/>
                    <a:ext cx="75675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68BE-A51F-498C-95BD-0D326A045D6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Higher bit precision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3 bit signed colors (overbright colors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duces darkening associated with multi-textur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“wash out” effect prevalent in cinema and vide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urface attenuations goes from 0 to 1.0, but light intensity can go from 0 to infinity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in scenes with sunlight or nighttime scen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Higher precision for environment bump mapping matrix multiply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ghting engine could easily be changed to clamp from 0 - 16 instead of 0-1 giving overbright iterated lighting automatically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1802-425E-44CF-8428-FBAD1D7A3B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Vertex Ligting: 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t with White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230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590920" y="3276720"/>
            <a:ext cx="1638360" cy="235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91320" y="3124080"/>
            <a:ext cx="1692000" cy="2416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C6B-B108-4001-92A4-FF2FD02375E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Bright Lights- 4x brighter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.0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Light Clamped to 16.0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2027520" cy="2293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027160" cy="2415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3ED3-B9E1-49A8-8DC9-EA00D5985AC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Colored Lights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reen Textured Martini Glass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19280" y="16002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urple”  Ligh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230,75,230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209680" y="2895480"/>
            <a:ext cx="1692360" cy="2416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2895480"/>
            <a:ext cx="1920960" cy="2370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ABDA-1E96-4CDE-905C-21DF60DB890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Quiz Quest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The light gets much brighter (4x)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ich image does traditional HW generat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52480" y="5334120"/>
            <a:ext cx="7239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Follow up question: How many lines of code changed in the Lighting engine to generate the other im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2666880"/>
            <a:ext cx="1806840" cy="2468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286000" y="2743200"/>
            <a:ext cx="195912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9983-5FEA-453D-9712-3692D7157EE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Overbright Light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224E-19E1-4851-8D44-49787FD326A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assive Multi-texturing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light maps: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(Diffuse surface  * diffuse light) + (specular surface * specular light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pecular surface * iterated specular + (diffuse light * diffuse surface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ultiple specular maps and properties (water on pavement at night 6 textures)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ultiple projected texture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possibly with its own shadow map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ise functions, other methods of combining textures to simulate physical motion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ater, fire, cloud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2EB-5864-43FC-89FD-60B5F006DF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e Bor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Quiz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How Many textures are used the surface of the cub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 up question: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At which year’s total immersion, was this demo first shown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ollow-up Follow-up quest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What is resistance?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8196-A9F0-40C2-9F6F-7A76D80B5D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Massive Multi-texturing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524-5024-49BB-9CA9-D13A876AF7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Rendering Engine (VTA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ext Generation Video Engin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16M tri/sec, 800MP/sec, Single textured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ogrammable Shad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Higher quality filt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-buffer based A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2 textures and Anisotropic with no performance hit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A With 4 textures with no performance hi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calable Architecture 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Integrated Bridge functionality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ull AGP Support in SLI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382-0D85-48BE-AA91-D8CF384080D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Advanced Recursion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iffuse bump , specular bump, reflective bump maps combined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Each bump map disturbs coordinates of a different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 scaling of recursive data to make for subtle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neven tile floor, slightly distorted glas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ombine bump maps together then recurs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ipples on water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ump maps affecting other bump map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2, 3 or 4 sets of recursions; fluids, turbulence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Non-photo realistic render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A23-8966-4351-B4AA-01375F1B355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ultiple Shadow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Shadow lights, Sum lights together, then modulate surfa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odified stencil buffer trick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’s Xor function, and ARGB channels to model up to four shadow source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exture chroma compare w/percentage passed used to identify when pixel is lit by light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bject ID based shadowing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Shadow  map projected from light sourc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contains object ID of lit object in RGB channel. 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Use percentage passed to select in/ou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vanced Object ID shadowing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Projected texture: RGB contain light, Alpha Object ID of surface lit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pha channel used to  compare against Object ID, along with “never shadowing objects”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Traditional chroma used to let light through or set to zero on a per-texel basis.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DC87-5B2A-4F31-9754-E273E09E477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33"/>
                </a:solidFill>
                <a:latin typeface="Times New Roman"/>
              </a:rPr>
              <a:t>Shadow Demo </a:t>
            </a:r>
            <a:endParaRPr b="0" lang="en-US" sz="36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D1CD-EEC8-4AFA-8977-E408D8D3B4A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Uses: Miscellaneous.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he Iris effect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Do all lighting /texturing in 13 bit space, then use a constant color register to scale the range based on the average intensity of the imag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t Product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hree term (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Four term (A0*A1 + R0*R1 + G0*G1 + B0*B1)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Min/Max affect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Used in Halo Demo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1D0-D171-4810-8F1B-F2CD2B3AFBA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combinations of up to eight textur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selection of filtering mode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-texel operation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flexible texture computer with higher bit precisio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imple address ops based on texture computer output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Of course, this adds “flexibility”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7944-9060-4A8A-B3C9-03CE9E2DB7A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Thanks for the images &amp; Demo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Denis Amselem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ubert Nguye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Houman Meshkin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Jeff White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Gary Tarolli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A70-5478-4477-B6E2-8F79887F60D9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76080" y="1295280"/>
            <a:ext cx="756756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Multitexturing: 8 textures each with different filtering: point, bilinear, trilinear, anisotropic (up to 128-tap)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Iterators: 8 ARGBSTW iterators: one per textur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Recursion (Address ops) : recursion in parallel or series on up to 4 textures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ny combination of 4 recursions on the 8 available textures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ecursion allows one texture to perturb the values of another textur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wo recursion mod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Before and after W divide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pplicable for bump mapping and procedural textures</a:t>
            </a:r>
            <a:endParaRPr b="0" lang="en-US" sz="16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isc-like address op instruction model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ubic Environment Mapping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pres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DirectX/DXT (all formats) ,FXT1 compressed texture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YUV Texture format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F00-A650-42C3-9E40-CE296AB98F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76160" y="1371600"/>
            <a:ext cx="6933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puter (Pixel Shader)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assive flexible math capability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texture combine unit: (a+b)*c+d feeding... 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...color combine unit: (A+B)*C+D where each abcd and ABCD can be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from any of iterator, texture, previous, registered and constant valu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manipulated independently with: x, -x, 1-x and x-0.5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Compare based multiplexing: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texture and color: combine unit: (a-b)? c:d and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exture combine unit output summing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R+G+B may feed 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color combine unit: .(a+b)*c+d, alpha and/or color channels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Useful for intensity ops, dot product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egister based combiners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lows for Sum of products, products of sums, et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2868-22FE-420B-9878-891C6B0E4A5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Rampage Features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Larger color component precision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13 bits per component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Precision maintained through alpha blender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Alpha Blender Logic Ops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d pixel pipeline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pixels-per-clock single textured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/N pixels per clock for N textures (per chip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Scalable rendering: Up to four chips ganged together. No bridge chip required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Optimized Geometry Pipeline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Viewport Transforms and efficient host/graphics IO yield optimum performance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Works with (or without) Sage geometry co-processo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0EB5-5D39-435D-8195-D337AFAF91E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160" y="68544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Why do we need massive multi-texturing if we have T&amp;L?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160" y="2666520"/>
            <a:ext cx="693396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Per pixel lighting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Shadow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ultiple light and surface maps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Modeling physical properties.</a:t>
            </a:r>
            <a:endParaRPr b="0" lang="en-US" sz="3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569A-810C-4217-99A7-9097ACC5F5D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Each texture has totally independent programming state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STG: Recursion Data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Before Perspective correct divide or after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ve data can be scaled by a power of 2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Address = Iterator + (offset &lt;&lt; n)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Recursion can be turned off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ilter Control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Mipmapping control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Point sampled, bilinear, trilinear, anisotropic.</a:t>
            </a:r>
            <a:endParaRPr b="0" lang="en-US" sz="20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One map of many can be anisotropic without slowing the other textures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51"/>
              </a:spcBef>
              <a:buClr>
                <a:srgbClr val="ff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33"/>
                </a:solidFill>
                <a:latin typeface="Arial"/>
              </a:rPr>
              <a:t>4 through 128 tap filtering selectable per-texture.</a:t>
            </a:r>
            <a:endParaRPr b="0" lang="en-US" sz="1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109C-B69B-46C2-8A82-462B8E210BE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69339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Arial"/>
              </a:rPr>
              <a:t>Programming Flexibility (continued)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Per-texel operations (texture chroma)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hroma on value or range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Flexible RGB control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RGB compares can be replaced with Alpha (3 compares)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Traditional chroma (replace with black) Chroma Replace, Percentage passed modes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Useful for smooth chroma-key effects, shadows, etc.</a:t>
            </a:r>
            <a:endParaRPr b="0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4C67-A09D-4899-BF90-774C19EA9E8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6933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Times New Roman"/>
              </a:rPr>
              <a:t>Anisotropic Filtering</a:t>
            </a:r>
            <a:endParaRPr b="0" lang="en-US" sz="4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4343400"/>
            <a:ext cx="69339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Rampage enables usable anisotropic filtering for the first time in a cost effective personal computer environment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imes New Roman"/>
              </a:rPr>
              <a:t>Far superior to trilinear filtering</a:t>
            </a:r>
            <a:endParaRPr b="0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523880" y="837360"/>
            <a:ext cx="3695760" cy="3296160"/>
            <a:chOff x="1523880" y="837360"/>
            <a:chExt cx="3695760" cy="329616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1523880" y="124740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669760" y="8373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Trilin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257800" y="837360"/>
            <a:ext cx="3695760" cy="3299400"/>
            <a:chOff x="5257800" y="837360"/>
            <a:chExt cx="3695760" cy="3299400"/>
          </a:xfrm>
        </p:grpSpPr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257800" y="1250640"/>
              <a:ext cx="3695760" cy="28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494040" y="837360"/>
              <a:ext cx="130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d6637"/>
                  </a:solidFill>
                  <a:latin typeface="Arial"/>
                </a:rPr>
                <a:t>Anisotropi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AAC-0917-4910-BBDB-69A732E7DDA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6T03:29:20Z</dcterms:created>
  <dc:creator>3Dfx</dc:creator>
  <dc:description/>
  <dc:language>en-US</dc:language>
  <cp:lastModifiedBy>Preferred Customer</cp:lastModifiedBy>
  <dcterms:modified xsi:type="dcterms:W3CDTF">2000-08-01T02:05:24Z</dcterms:modified>
  <cp:revision>26</cp:revision>
  <dc:subject>Rampage Overview</dc:subject>
  <dc:title>Immersion 2000</dc:title>
</cp:coreProperties>
</file>